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6.gif" ContentType="image/gif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C3B-77ED-4BC7-8883-B792B13A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v.physicslab.org/Document.aspx?doctype=3&amp;filename=WavesSound_IntroductionWaves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2D49-D250-42DC-BCE7-E3167E6DBC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FD4-595D-4ED1-9450-1B370CD2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40F-61D0-4D2D-B1C2-5B041906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3C2-6843-40F6-A196-D7F2A960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E45-8E72-4B8B-B7AF-7AC3AADB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DCF-AAF4-4955-97D5-BAE4B065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AC4-8C4C-47B0-B228-8D68767A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697-8FC6-43E8-B847-80435C2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E4C-8822-423C-8401-B022C9F7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845-39E7-4761-ABD6-7C2A834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F1D-04C1-47AA-B397-FEA23C77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565-1EA0-4F6C-AE9D-E8AF4E4E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A8C-596E-4CB5-9E92-A74846A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CC8-9CD7-4801-A359-DED62E52D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Worksheets/Waves%20Review.ppt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Projects/Mousetrap%20Racer/Moustrap%20Project%20Introduction.ppt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hazelwood.k12.mo.us/~grichert/sciweb/waves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d.mind.net/~zona/mstm/physics/waves/transLongWaves/transAndLongWavesHome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20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6668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ves Lab, Website, and Textbo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13282" t="14584" r="14844" b="12502"/>
          <a:stretch/>
        </p:blipFill>
        <p:spPr>
          <a:xfrm>
            <a:off x="304920" y="228600"/>
            <a:ext cx="838188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3282" t="15627" r="14844" b="12502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/>
          </p:cNvPr>
          <p:cNvPicPr/>
          <p:nvPr/>
        </p:nvPicPr>
        <p:blipFill>
          <a:blip r:embed="rId2"/>
          <a:srcRect l="16876" t="17998" r="18125" b="17001"/>
          <a:stretch/>
        </p:blipFill>
        <p:spPr>
          <a:xfrm>
            <a:off x="609480" y="1447920"/>
            <a:ext cx="792504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28600" y="152280"/>
            <a:ext cx="876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en Notes/Handou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ve Assess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Project – 5/21-6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38280"/>
            <a:ext cx="8001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04840" y="5638680"/>
            <a:ext cx="6972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usetr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c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440" y="222660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usetrap Intro Work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3 Points and Ticket to Class Tomorrow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2500" t="13000" r="11874" b="10000"/>
          <a:stretch/>
        </p:blipFill>
        <p:spPr>
          <a:xfrm>
            <a:off x="152280" y="152280"/>
            <a:ext cx="8763120" cy="5577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33520" y="5791320"/>
            <a:ext cx="784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UE TOMORROW...3 POINTS ! !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aves carry from place to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Energy &amp;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Energy or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04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990720" y="1295280"/>
            <a:ext cx="7238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t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a Wa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54400"/>
            <a:ext cx="3200400" cy="2627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79200"/>
            <a:ext cx="2895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86400" y="1350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 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320" y="76320"/>
            <a:ext cx="5333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atomy of a Wa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266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352680"/>
            <a:ext cx="914400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 VOCABULARY:  Write a short definition of each term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veleng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equ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733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ighest point of a 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43578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west point of a 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952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stance between center of wave and crest…how much energy is car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454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stance a wave travels in one cycle…measured from crest to crests or trough to t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6095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umber of waves past a given point in one second…measured in waves per second or hert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2590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76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IONS:  Use the points on the waveform graph below to answer the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19520"/>
            <a:ext cx="914400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oints are located at the crest of the wave? 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oints are located at a trough? 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started at point E and traveled one wavelength, where would you end?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started at point D and traveled one wavelength, where would you end?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 find the amplitude of this wave? 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07860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ore fun information about waves check out the following webs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azelwood.k12.mo.us/~grichert/sciweb/wav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, E, a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367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, H, and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39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4572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1814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asure the distance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nter line of the wave to either point A, E, or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Anatomy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Slinky Demonstratio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Review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trap Racer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trap Intro Worksheet (3 Points &amp; Ticket to Class Tomorrow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aves carry from place to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B858D924-5618-427D-93AA-4504FEA2D0F9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the difference between the types of waves that carry sound and l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waves transport energy from place to 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76320"/>
            <a:ext cx="7467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emonstration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linky Spring Wav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883944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477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id.mind.net/~zona/mstm/physics/waves/transLongWaves/transAndLongWavesHom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867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TYPES OF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2:02:47Z</dcterms:created>
  <dc:creator>krmihal</dc:creator>
  <dc:description/>
  <dc:language>en-US</dc:language>
  <cp:lastModifiedBy>krmihal</cp:lastModifiedBy>
  <dcterms:modified xsi:type="dcterms:W3CDTF">2010-05-20T12:03:13Z</dcterms:modified>
  <cp:revision>1</cp:revision>
  <dc:subject/>
  <dc:title>Slide 1</dc:title>
</cp:coreProperties>
</file>